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12.png" ContentType="image/png"/>
  <Override PartName="/ppt/media/image1.jpeg" ContentType="image/jpeg"/>
  <Override PartName="/ppt/media/image7.png" ContentType="image/png"/>
  <Override PartName="/ppt/media/image4.gif" ContentType="image/gif"/>
  <Override PartName="/ppt/media/image8.png" ContentType="image/png"/>
  <Override PartName="/ppt/media/image13.png" ContentType="image/png"/>
  <Override PartName="/ppt/media/image3.gif" ContentType="image/gi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765A-C4D0-47E5-A6AF-7E926680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158-5279-48E4-A25D-5E59B345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EB69-55AE-469E-BB62-68EC3B80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AC3-688D-4016-8F8B-98B68208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6AAB-D962-419F-AED5-FBBA0DFE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1ED6-3B63-4F2A-A31A-4A08BE78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B461-DDC3-4505-9FF4-34DB1B1B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FE96-0632-4883-975D-44512140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C987-7DEA-45A9-8927-D8029344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297A-37C6-4513-B61E-97BDE118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7FC5-2432-4CCC-AA5A-5CA42829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D332-7732-480B-856C-76B29195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C38A-12D3-4457-9ADB-3E680BC8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9777-2A10-4304-BA02-A6A96580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8EBB-90AA-4402-B959-BDC57230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1799-9666-48B2-A5DD-DFD484E2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592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42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4EFE-4F13-4F8C-B145-93A0C119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A0B-4C94-4438-83B9-A083CB73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AC7-00DA-43B4-902F-0FB19B69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0C0-E33F-4CE1-8DCF-51D93D2F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F7C-82BD-40C2-8570-66389741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E49D-DE25-414E-807F-4957674C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D43E-CC6F-410E-8489-B0871181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86B-EE3A-4BB8-AE88-AA758B7C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6904-2A61-445A-B00F-0A07E22B0669}" type="slidenum">
              <a:rPr b="1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4956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C2A5-2B53-464C-80F4-4B65E83A8FBD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sumanasinc.com/webcontent/anisamples/nonmajorsbiology/proteinstructure.html" TargetMode="External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mass.edu/microbio/chime/pe_beta/pe/protexpl/animgif.htm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380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705720" y="1143000"/>
            <a:ext cx="192060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1AC-0EC7-40C2-B4DC-F2D947FDB00C}" type="slidenum">
              <a:t>1</a:t>
            </a:fld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Denaturating Protein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21932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Changes in temperature &amp; pH can denature (unfold) a protein so it no longer wor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2629080" cy="2047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029200" y="2724120"/>
            <a:ext cx="3171960" cy="2381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3520" y="28195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king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enature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protein in eg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1055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k protein separates into curds &amp; whey when it denatu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A44-88B9-4E2C-9DB7-00933D3A0D48}" type="slidenum">
              <a:t>10</a:t>
            </a:fld>
          </a:p>
        </p:txBody>
      </p:sp>
    </p:spTree>
  </p:cSld>
  <p:transition spd="med">
    <p:fade thruBlk="true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anging Amino Acid Seque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143000"/>
            <a:ext cx="7696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Comic Sans MS"/>
              </a:rPr>
              <a:t>Substitution of one amino acid for another in hemoglobin causes sickle-cell diseas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2750" t="4296" r="2750" b="16017"/>
          <a:stretch/>
        </p:blipFill>
        <p:spPr>
          <a:xfrm>
            <a:off x="1981080" y="2743200"/>
            <a:ext cx="5119920" cy="2762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13960" y="3736800"/>
            <a:ext cx="2555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Normal red blood cel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4934520" y="3736800"/>
            <a:ext cx="2081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 hemoglo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4074840" y="3352680"/>
            <a:ext cx="279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4514760" y="3241800"/>
            <a:ext cx="279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900320" y="3297240"/>
            <a:ext cx="279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5284800" y="3511440"/>
            <a:ext cx="29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5726160" y="3517920"/>
            <a:ext cx="29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3297240"/>
            <a:ext cx="279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547320" y="3181320"/>
            <a:ext cx="8787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 . . 14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1713600" y="5670720"/>
            <a:ext cx="2577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Sickled red blood cel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4885920" y="5670720"/>
            <a:ext cx="2375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ckle-cell hemoglo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4458960" y="5119560"/>
            <a:ext cx="279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4905360" y="5168880"/>
            <a:ext cx="279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4074840" y="5175360"/>
            <a:ext cx="279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5284800" y="5389560"/>
            <a:ext cx="29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5740560" y="5389560"/>
            <a:ext cx="29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6175080" y="5175360"/>
            <a:ext cx="279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6556680" y="5064120"/>
            <a:ext cx="8787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 . . 14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6F4-6374-4C79-993A-93E2EBB495AE}" type="slidenum">
              <a:t>11</a:t>
            </a:fld>
          </a:p>
        </p:txBody>
      </p:sp>
    </p:spTree>
  </p:cSld>
  <p:transition spd="med">
    <p:fade thruBlk="true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Proteins as Enzym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Many proteins act as biological catalysts or enzym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5909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Thousands of different enzymes exist in the b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37339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</a:rPr>
              <a:t>Enzymes control the rate of chemical reactions by weakening bonds, thus lowering the amount of activation energy needed for the re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885A-10EF-4EF0-BC2E-628D24CAA3F6}" type="slidenum">
              <a:t>12</a:t>
            </a:fld>
          </a:p>
        </p:txBody>
      </p:sp>
    </p:spTree>
  </p:cSld>
  <p:transition spd="med">
    <p:fade thruBlk="true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Enzym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1981080"/>
            <a:ext cx="6858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Their folded conformation creates an area known as the active sit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2193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nzymes are globular protei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3886200"/>
            <a:ext cx="6705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</a:rPr>
              <a:t>The nature and arrangement of amino acids in the active site make it specific for only one type of substr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553-95AC-49FB-BDC4-F27E2B5C9A13}" type="slidenum">
              <a:t>13</a:t>
            </a:fld>
          </a:p>
        </p:txBody>
      </p:sp>
    </p:spTree>
  </p:cSld>
  <p:transition spd="med">
    <p:fade thruBlk="true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 + Substrate = Produc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80010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FDF-54E8-4A61-AEB2-10051078C4BC}" type="slidenum">
              <a:t>14</a:t>
            </a:fld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ow the Enzyme Work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791320" cy="4682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133720" y="57913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zymes are reusable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DD7-A98B-4048-B39B-2713A4A19889}" type="slidenum">
              <a:t>15</a:t>
            </a:fld>
          </a:p>
        </p:txBody>
      </p:sp>
    </p:spTree>
  </p:cSld>
  <p:transition spd="med">
    <p:fade thruBlk="true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otein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roteins are polymers made of monomers called amino acids (aka building blocks) 8-10 we can not make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9718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</a:rPr>
              <a:t>All proteins are made of 20 different amino acids linked in different or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343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Proteins are used to build cells, act as hormones &amp; enzymes, and do much of the work in a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96080" y="5353200"/>
            <a:ext cx="1257480" cy="94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CAF-6210-480A-90E2-421D865F7322}" type="slidenum">
              <a:t>2</a:t>
            </a:fld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14600" y="327636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in complement of organism: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proteins specified by genes within an organis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mic Sans MS"/>
              </a:rPr>
              <a:t>Estimated Functional Roles (by % of Proteins)</a:t>
            </a:r>
            <a:endParaRPr b="0" lang="en-US" sz="33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852480"/>
            <a:ext cx="6629400" cy="583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B80-5D34-4098-92F7-F256EFB2CF76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ypes of Protein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2952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teins are generally classified as either fibrous or globula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2209680"/>
            <a:ext cx="739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al proteins - collagen, silk, microtubul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proteins (hormones) - insulin, growth hormone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actile proteins - Actin, myosin, dynein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 proteins - hemoglobin, myoglobi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age proteins - egg white, seed protei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ctive proteins - antibodie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rane proteins - membrane-transport, channe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zymes - most proteins ending in -ase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51D-A328-441B-B9EB-37236CE6035C}" type="slidenum">
              <a:t>4</a:t>
            </a:fld>
          </a:p>
        </p:txBody>
      </p:sp>
    </p:spTree>
  </p:cSld>
  <p:transition spd="med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6000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1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7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tructure of Amino Acid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076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Amino acids have a central carbon with 4 things bonded to it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3352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4c26"/>
                </a:solidFill>
                <a:latin typeface="Comic Sans MS"/>
              </a:rPr>
              <a:t>Amino group-NH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9625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Carboxyl group-CO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4724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ydrogen-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5410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Side group-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3947" t="10331" r="2665" b="14300"/>
          <a:stretch/>
        </p:blipFill>
        <p:spPr>
          <a:xfrm>
            <a:off x="4495680" y="1143000"/>
            <a:ext cx="4389480" cy="4876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95680" y="1219320"/>
            <a:ext cx="12193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m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121932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boxy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2590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 gro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8006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de grou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5943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ucine -hydrophob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55627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rine-hydrophill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A7B-34A8-4BF5-B70D-47EB9F49280B}" type="slidenum">
              <a:t>5</a:t>
            </a:fld>
          </a:p>
        </p:txBody>
      </p:sp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inking Amino Ac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76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Cells link amino acids together to make protei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1148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eptide bonds form to hold the amino acids toget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2256" t="9338" r="7419" b="8345"/>
          <a:stretch/>
        </p:blipFill>
        <p:spPr>
          <a:xfrm>
            <a:off x="4343400" y="1143000"/>
            <a:ext cx="4241880" cy="502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952880" y="838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boxy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19051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2096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de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3352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hydration Synthe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5943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ptide Bo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08D-6D66-4371-9408-C15153BAB946}" type="slidenum">
              <a:t>6</a:t>
            </a:fld>
          </a:p>
        </p:txBody>
      </p:sp>
    </p:spTree>
  </p:cSld>
  <p:transition spd="med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Primary Protein Structu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1767" t="3388" r="2940" b="3795"/>
          <a:stretch/>
        </p:blipFill>
        <p:spPr>
          <a:xfrm>
            <a:off x="3352680" y="914400"/>
            <a:ext cx="4881600" cy="5638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4920" y="1676520"/>
            <a:ext cx="32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primary structure is the specific sequence of amino acids in a prot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5257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200400" y="4343400"/>
            <a:ext cx="19051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359-A083-4519-A57E-750195270D9A}" type="slidenum">
              <a:t>7</a:t>
            </a:fld>
          </a:p>
        </p:txBody>
      </p:sp>
    </p:spTree>
  </p:cSld>
  <p:transition spd="med">
    <p:fade thruBlk="true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Protein Structur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condary protein structures occur when protein chains coil or fold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819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hen protein chains called polypeptides join together, the tertiary structure fo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464832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In the watery environment of a cell, proteins become globular in their quaternary 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2A9-805F-4034-AD5D-7639679AE603}" type="slidenum">
              <a:t>8</a:t>
            </a:fld>
          </a:p>
        </p:txBody>
      </p:sp>
    </p:spTree>
  </p:cSld>
  <p:transition spd="med"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4 Main Groups-Protein Structur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787" t="781" r="11750" b="8986"/>
          <a:stretch/>
        </p:blipFill>
        <p:spPr>
          <a:xfrm>
            <a:off x="1281240" y="1165320"/>
            <a:ext cx="6796080" cy="471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943240" y="1752480"/>
            <a:ext cx="1492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gen bo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674520" y="2597040"/>
            <a:ext cx="1329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eated she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1515600" y="3046320"/>
            <a:ext cx="1140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ino ac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014120" y="3362400"/>
            <a:ext cx="1937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Primary stru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1533240" y="3946680"/>
            <a:ext cx="1492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gen bo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2911680" y="4554360"/>
            <a:ext cx="1131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pha heli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929120"/>
            <a:ext cx="15764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Secondary stru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6113520" y="2786040"/>
            <a:ext cx="15066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ypepti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ingle subunit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4675320" y="4878360"/>
            <a:ext cx="17078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Tertiary stru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6110280" y="5878440"/>
            <a:ext cx="2232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d) Quaternary stru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141640" y="2946240"/>
            <a:ext cx="1440" cy="138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334120" y="1828800"/>
            <a:ext cx="2840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895480" y="3962160"/>
            <a:ext cx="360360" cy="75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B91-3F20-4391-8F8A-7B2B94CE0ED9}" type="slidenum">
              <a:t>9</a:t>
            </a:fld>
          </a:p>
        </p:txBody>
      </p:sp>
    </p:spTree>
  </p:cSld>
  <p:transition spd="med">
    <p:fade thruBlk="true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9:29:47Z</dcterms:created>
  <dc:creator>Cheryl Massengale</dc:creator>
  <dc:description/>
  <dc:language>en-US</dc:language>
  <cp:lastModifiedBy>andrew.culberson</cp:lastModifiedBy>
  <dcterms:modified xsi:type="dcterms:W3CDTF">2007-03-21T12:11:26Z</dcterms:modified>
  <cp:revision>103</cp:revision>
  <dc:subject/>
  <dc:title>Biochemistry of Cells</dc:title>
</cp:coreProperties>
</file>